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034-FB5E-4421-9738-F6486543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8FA0-4D38-4761-BB98-D7533C81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204-8FD3-4C6C-836E-7B994A38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1C76-9205-4647-9579-021A7070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0AED-E30C-4D50-A6DD-A72B53D8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27F4-EA36-416B-A162-55B4746B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458C-3925-4729-963A-18A11895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3339-A134-4330-A0DF-B8E080A7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8068-8640-4C53-A952-C22665D6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12C6-2B29-40D1-8D25-2DBA0747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BC51-8BED-44C5-AF31-5187F9A8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E520-BABB-4CBF-9B04-E7FAB7A4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4732-D1C2-445B-A996-F319D782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8190-591B-44B7-A40E-B948BD73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365A-5AF1-4B90-9B2D-B5EC3CFD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952D-4F60-4F05-AD8E-FA4D41C3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860B-8741-42E1-90EC-31C0356B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1DF-8872-4015-9F01-F59A018A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8F68-1E36-49AA-9C81-E921E2CF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53A-57EB-4449-97DA-4BEFE13D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F39-F3EB-4C41-82C1-4A281C15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7F0-EA01-4949-8B62-6CDBDDFC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CE6E-B628-4E19-B15C-80DD5CFC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CCB-2866-4CF2-BE45-790A97A9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91AC-BE23-4198-A543-C0A2D7FFC4D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8A97-42EE-4A48-87D6-EBED1300BB02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.kellett@open.ac.uk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Ethics and research by young peop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y Kelle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m.kellett@open.ac.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ed con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tiality and anonym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ence of ha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ption and coer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age and ownership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les and responsi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evels of ‘consent’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party con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ent by prox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l’ con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al’ con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ed con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going con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rcle of con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380360" y="2997360"/>
            <a:ext cx="761760" cy="88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Confidentiality and anonymi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fidentiali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clu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onym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lurred bound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far can you go to ensure anonymi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pect for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Absence of har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icipant wellbeing is param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o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Deception and coerc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deception in research te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cking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disclosing true research 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ert ob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oercion in research terms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ggesting rewards/favours as induc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ats of adverse consequen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Storage and ownership of dat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cure, locked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 has access to the da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 owns the da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isions about destroying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deo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Ethical roles and responsibilit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40000" y="1676160"/>
            <a:ext cx="47019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ult suppo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elp child researchers arrive at ethical research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ithdraw support  from unethical pro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on’t make rash promi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elp child researchers to keep projects fea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suring wellbeing of child researc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lear the way with gatekee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sclosure of ab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port child researchers with secure data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1320" y="1676160"/>
            <a:ext cx="36226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ld researc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ical research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ed / ongoing con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use no harm or dist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ece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closure of ab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e data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e findings with participa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xamples of questionable practi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olving participants without their knowledge or con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ercing them to particip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holding information about the true nature of the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uading participants to engage in acts which diminish their self este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ading priv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osing individuals to physical, mental or emotional 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holding a benefit in order to prove a causal link in a comparison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ck of consideration and/or respect for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0:21:58Z</dcterms:created>
  <dc:creator>Mary Kellett</dc:creator>
  <dc:description/>
  <dc:language>en-US</dc:language>
  <cp:lastModifiedBy>ali</cp:lastModifiedBy>
  <dcterms:modified xsi:type="dcterms:W3CDTF">2008-01-05T19:06:22Z</dcterms:modified>
  <cp:revision>13</cp:revision>
  <dc:subject/>
  <dc:title>Ethical considerations in research with vulnerable groups</dc:title>
</cp:coreProperties>
</file>